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E0A-E40D-42C2-BF62-DB4E0923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EE8-18A2-4EE5-8A85-5B2FE78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7C7-DC3B-430B-BBD8-1C2D2085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EBE-2DDA-4A9B-A121-C11898F7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1CA0-A2EC-4AE7-813F-3B40AE8A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79D-3542-47B0-90E6-179F91E2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C53F-FB15-44E6-BDAA-DAB6608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8F5E-E0BA-435E-B778-E1774FAE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48F6-5C77-4AFA-9BFA-A682E03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3A9-30FB-4AAF-883B-C41A990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5B6-71AD-405E-BCB6-9BFA72A4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131-C070-49CB-8B8A-9487E29D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C5C-DF82-45D8-ACBA-F6764F0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94C-0BD5-4AE0-99BE-0473F5D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9D5-8D28-4369-8BED-119ACBA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DF6-1DEC-4992-AC32-B96F8E4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E932-503A-4C58-908F-96AF3E83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A31-6D50-4479-947F-0742F19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48A-AE9A-4B49-934A-89E30013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3E2-BBC7-43BE-9311-B153AAA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C95-33F6-4530-8637-78C1651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BD5-CE0D-44DB-A87A-CD09FC1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D72-B043-4A26-8500-474EAF9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160-5127-4E1E-8DC1-A0CB89B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4B39-2D44-4CD7-BC05-2A7C30E78E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E19-7929-4FEE-9EF1-B1ACE75C43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дорог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дорог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площадок (разгрузочных, разворотных, разъездов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количества  материалов, необходимых для устройств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41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й дороги автоматически рассчитывается количество материалов для устройства дороги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вставить в чертеж схему устройства и таблицу расхода материалов, настроить вид в пл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90680" y="968400"/>
            <a:ext cx="627840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льзователь может задать следующие параметры дороги: ширина, радиусы поворота, уширение в кривых, ширина обочины. Кроме того, можно управлять параметрами отображения пересекающихся дор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19080" y="1457280"/>
            <a:ext cx="740592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араметры отображения пересекающихся дор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ересечений дорог можно задать разные настройки (обочины, штриховку и т.п.). Кроме того, необходимо выбрать главную дорогу для конкретного пересечения. Площадь пересечения входит в площадь главной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47840" y="1209600"/>
            <a:ext cx="50864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параметров отображения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578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настройки отображения разных элементов дороги (трасса, штриховка, обочина и т.д.) в плане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57520" y="1471680"/>
            <a:ext cx="562896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й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43040" y="51148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изображениях временных дорог на чертеже автоматически строятся радиусы закругления и уширения в кривы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889520" y="1652760"/>
            <a:ext cx="3584520" cy="3162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23880" y="1633680"/>
            <a:ext cx="3692520" cy="3189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03560" y="27907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ный конт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5360" y="26290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дороги 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кой уши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1000" y="2754360"/>
            <a:ext cx="803520" cy="396720"/>
          </a:xfrm>
          <a:prstGeom prst="rightArrow">
            <a:avLst>
              <a:gd name="adj1" fmla="val 50000"/>
              <a:gd name="adj2" fmla="val 50635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5267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дороги предусмотрена возможность построения на чертеже схемы устройства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013120" y="1360440"/>
            <a:ext cx="5373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63840" y="266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95320" y="3552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для устройства временной дороги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851040" y="1549440"/>
            <a:ext cx="76071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9-04-26T12:16:17Z</dcterms:modified>
  <cp:revision>264</cp:revision>
  <dc:subject/>
  <dc:title>Слайд 1</dc:title>
</cp:coreProperties>
</file>